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45B-162D-4D08-B891-73BF3113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25B6-69B0-41FC-8926-197B7686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736-B760-4A53-AB95-A742D1D5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ECE2-44A7-48B4-8DDF-3E224B65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C3F2-9967-463D-9837-806F7ED0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F963-9F8D-4B51-B7A3-47F40CFB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E578-A007-43A4-9BB2-9984321F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2F3E-E548-4346-B249-A06E3880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94AD-DE2D-41DE-A471-28747AAB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DAF4-7877-4FEF-80A9-ABFBF84D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9C11-1BA6-4D82-BC95-BCE77C28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E38-835A-4124-B793-541D752F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7249-8B19-41DE-BAEA-B342478C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2661-E86D-4AED-807B-414B86B4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576C-36E8-4D60-9E9A-2CF0D3C7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A642-A255-45AA-AE03-65BDC79B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4E12-55BD-48CB-829B-E4B5E2FE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2BC-2504-4968-BD89-E7803C53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766-C7C4-4B12-8E1B-7E6BF191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972A-0BCE-4B45-A98C-39EA5167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648-5069-4BFC-83B6-DF891873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BE5A-0908-449C-8D87-37E8D237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7F6-0262-4031-99A5-125DFCFE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1D8-F71D-4BE4-B65D-AE96E0C5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DF83-D2ED-4E98-95D4-88F8AEBB8DB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DAAF-8920-4D69-9DDE-1871F227F9B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6095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a mansi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Arial"/>
              </a:rPr>
              <a:t>ó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. Es estupend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019920" cy="3630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8120" y="6095880"/>
            <a:ext cx="24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livia H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5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patio. Es grande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House Patio Designs"/>
          <p:cNvPicPr/>
          <p:nvPr/>
        </p:nvPicPr>
        <p:blipFill>
          <a:blip r:embed="rId1"/>
          <a:stretch/>
        </p:blipFill>
        <p:spPr>
          <a:xfrm>
            <a:off x="1676520" y="2209680"/>
            <a:ext cx="5562360" cy="4262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jardin. Es lujos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524560" cy="39830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Comedor. Es bonit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096240" cy="4057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 una cocina. Es increible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 un cuarto. Es  nuevo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sala. Es un bell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105520" cy="3421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bano. Es un modern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4191120" cy="3302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8:28Z</dcterms:created>
  <dc:creator>hessoli</dc:creator>
  <dc:description/>
  <dc:language>en-US</dc:language>
  <cp:lastModifiedBy>hessoli</cp:lastModifiedBy>
  <dcterms:modified xsi:type="dcterms:W3CDTF">2011-10-26T13:48:42Z</dcterms:modified>
  <cp:revision>11</cp:revision>
  <dc:subject/>
  <dc:title>La casa  Olivia Hess</dc:title>
</cp:coreProperties>
</file>